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4.jpeg" ContentType="image/jpeg"/>
  <Override PartName="/ppt/media/image16.wmf" ContentType="image/x-wmf"/>
  <Override PartName="/ppt/media/image1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E1F3-CB24-4019-9B5B-F330B4399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3DD2-27D2-49ED-9144-F119457D4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ECBC-A1EA-426E-9F84-51C57A8D6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61F4-16F8-4B04-BC92-8AB12E33F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1EBB-4174-446F-AD67-6C88CD7FA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70BC-ABBB-43F8-BB20-78DBC7BE1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5B97-2429-4CAF-AB13-8A88785F1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FDE4-8294-4524-9982-6EEBE89F9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1BE5-47B8-404A-A454-DDE2048CF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4634-C79E-4216-996F-B558DFBD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1E7F-3E3C-473F-A567-474F659E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EC7D-087F-493B-BC5F-85DF60410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BA4D5-7C09-4788-AF14-5C8044043A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wmf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0"/>
            <a:ext cx="0" cy="6858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48520" y="57240"/>
            <a:ext cx="0" cy="6800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4971960"/>
            <a:ext cx="2514600" cy="18860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2514600"/>
            <a:ext cx="2666880" cy="1901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6553080" y="0"/>
            <a:ext cx="2590920" cy="1938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276720" y="2514600"/>
            <a:ext cx="2743200" cy="1838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6553080" y="2438280"/>
            <a:ext cx="2590920" cy="1943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3200400" y="4954680"/>
            <a:ext cx="2666880" cy="1903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3200400" y="0"/>
            <a:ext cx="2590920" cy="1943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6603840" y="5149800"/>
            <a:ext cx="2540160" cy="17082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9"/>
          <a:stretch/>
        </p:blipFill>
        <p:spPr>
          <a:xfrm>
            <a:off x="0" y="0"/>
            <a:ext cx="27432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895480" y="0"/>
            <a:ext cx="0" cy="6858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248520" y="57240"/>
            <a:ext cx="0" cy="6800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213372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451560" y="2514600"/>
            <a:ext cx="2692440" cy="17938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352680" y="0"/>
            <a:ext cx="2478240" cy="18590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889680" y="0"/>
            <a:ext cx="2254320" cy="1994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514600" cy="19414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0" y="2514600"/>
            <a:ext cx="2743200" cy="18302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3124080" y="2514600"/>
            <a:ext cx="2895840" cy="18572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7"/>
          <a:stretch/>
        </p:blipFill>
        <p:spPr>
          <a:xfrm>
            <a:off x="6477120" y="5029200"/>
            <a:ext cx="2666880" cy="18288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8"/>
          <a:stretch/>
        </p:blipFill>
        <p:spPr>
          <a:xfrm>
            <a:off x="3124080" y="5008680"/>
            <a:ext cx="2776680" cy="18493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9"/>
          <a:stretch/>
        </p:blipFill>
        <p:spPr>
          <a:xfrm>
            <a:off x="0" y="5005440"/>
            <a:ext cx="2743200" cy="18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895480" y="0"/>
            <a:ext cx="0" cy="6858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48520" y="57240"/>
            <a:ext cx="0" cy="6800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13372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743200" cy="18129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048120" y="0"/>
            <a:ext cx="3047760" cy="19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6:19:01Z</dcterms:created>
  <dc:creator>Dina Winterton</dc:creator>
  <dc:description/>
  <dc:language>en-US</dc:language>
  <cp:lastModifiedBy>Dina Winterton</cp:lastModifiedBy>
  <dcterms:modified xsi:type="dcterms:W3CDTF">2009-02-20T18:03:32Z</dcterms:modified>
  <cp:revision>24</cp:revision>
  <dc:subject/>
  <dc:title>Slide 1</dc:title>
</cp:coreProperties>
</file>